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E5D-E0DD-4251-B387-67C9E535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075-0BAC-4200-BFE5-F820D771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E00-BB86-41DC-9191-A792D002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99F-F857-41D5-B9C0-A22F3DE0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622-F8A7-44A8-AC70-B109C175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023B-8185-4C92-A4B4-996F2A8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E8EA-2A43-451B-86CF-2C95AC5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78DF-5B73-457E-BFEB-584859C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02F-3F11-4212-B305-E81B5A3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5B7F-DAB4-4EE2-BE69-5177A0AF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2F76-9D0E-490F-B68A-27566C7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641-12E7-49F4-B15F-F4F64212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0681-4056-4E34-A0D4-1BBDA0C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996-E5A8-40C4-8C40-4F7B751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56E1-5C67-4A39-AE3C-0D1F2849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52C9-2638-4CDF-AD22-72DE2FAA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4256-E155-492E-BA71-0384A463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2D2-7382-48DF-8212-3168CBC5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A7F-2472-43BC-8D2B-2D23C176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1B8-D359-4DE3-818D-EE94DB4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8B4-046D-46A4-9D2E-1ECB46BB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0EA-D7FD-4076-A4CA-41B076E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086-71AF-45BA-8A74-FCB32C6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DCF-3433-4824-A365-A4789F0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48E-C9E4-4CF0-96C5-F25D471DDA8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BF8-46A4-4403-927E-1014C62FB0D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38080" y="3276720"/>
            <a:ext cx="7239240" cy="15238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A PESQUISA E LAV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DE ÁGUAS MINERAIS E POTÁVEIS DE M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ccff"/>
                </a:solidFill>
                <a:latin typeface="Times New Roman"/>
              </a:rPr>
              <a:t>ROTEIRO DE PROCED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57880" y="55054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Emanuel Teixeira de Queir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N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167652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“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ão encontrei o mundo deserto quando vim a ele : meus pais plantaram para mim antes que eu nascesse. Eu plantarei para os que vierem depois de mim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(Talmu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480" y="48006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OBRIG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2840" y="590544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manuel@dnpm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533520"/>
            <a:ext cx="6400800" cy="76176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bcbcb"/>
                </a:solidFill>
                <a:latin typeface="Times New Roman"/>
              </a:rPr>
              <a:t>MINISTÉRIO DE MINAS E ENER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600200"/>
            <a:ext cx="8686800" cy="9144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PARTAMENTO NACIONAL DE PRODUÇÃO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352680"/>
            <a:ext cx="7772400" cy="3124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Pesquisa e Lavra de  Água Mi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pesquisa e lavra de água mineral e potável de mes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umo humano, bem como destinada a fins balneári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r-se-ão pelos Regimes de Autorização de Pesquisa 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cessão de Lavra, conforme previstos no Códig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eração, bem como  no Código de Águas Minerai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ectivos regulamentos e legislações correla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plement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Códigos de Mineração, de Águas Minerais e Legislação Correlat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00200"/>
            <a:ext cx="876312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I.1.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Requerimento de Autorização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Apresentação ao DNPM d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Requerimento para Auto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 Pesquisa Mineral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no qual se exig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Formulário Padronizado de Requerimen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2 - Plano de Pesquisa (Manual do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3 - Planta de Localização da Área Pretendida (50 hectar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Manual de Procedimento e Formulário de Autorização - DNP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04920" y="49528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equer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Indeferime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Exigência /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Alvará de Pesqui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80880" y="609480"/>
            <a:ext cx="8382240" cy="5105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Trabalhos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1 - Estudos Técnicos para o Relatório Final de Pesqui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 - Estud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in loc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1 - Análise Química Compl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2 - Análise Química dos Gases espontâne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3 - Análise Bacteri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4 - Determinação da Água ao Emerg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5 - Determinação da Tempera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6 - Determinação da Vaz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2.7 - Dosagem de Elementos Químicos Alteráve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81640" y="32004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rasil1" descr="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5260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 - FASE DA PESQUISA (EXPLOR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 - Estudo da Área de Proteção da Fo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1 - Caracterização Hidrológica e Cli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2 - Características Hidroge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3 - Características Hidroquí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4 - Caracterização do Uso do Solo e das Águ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ontes atuais  e potenciais de polui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5 - Análise das Possibilidades de ontamin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as Fontes e Grau de Vulner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.3.6 - Definição das Áreas de Proteção da Fon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Relatório Final de Pesquisa e do Estudo da Área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RF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1 - Não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.2 - Exigência/Aprovação (Classificação da Á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- Análise Técnica do Estudo de Proteção da 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6.2 - Exigência/Aprovação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rasil1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304920" y="380880"/>
            <a:ext cx="8381880" cy="83844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ao DNPM do Plano de Aproveitamento Econ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mico (PAE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), no qual se exig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1.1 - Projeto Técnico e Industrial - Plano de Explo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Estudo de viabilidade econômica do empreendimen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Mapas e Plantas das edificações e das instalações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ptação e de envas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PAE, precedida de vistoria </a:t>
            </a: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in lo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1 - Exigênc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2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pt-BR" sz="2400" spc="-1" strike="noStrike">
                <a:solidFill>
                  <a:srgbClr val="ff7c80"/>
                </a:solidFill>
                <a:latin typeface="Times New Roman"/>
              </a:rPr>
              <a:t>(Portaria de Lavra), com poligonal da Área de Prote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brasil1" descr=""/>
          <p:cNvPicPr/>
          <p:nvPr/>
        </p:nvPicPr>
        <p:blipFill>
          <a:blip r:embed="rId6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85800"/>
            <a:ext cx="8001000" cy="60948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 - FASE DA LAVRA (EXPLOTAÇÃO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47920"/>
            <a:ext cx="8382240" cy="27432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3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ção do Modelo de Rótul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(Port. 470/99 do 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 Resolução 54 da ANVS/M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nálise Técnica do Modelo de Rót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1 - Exig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4.2 - Aprov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Rótulo Aprovad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5 -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presentar análise bacteriológica para iniciar o process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     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envasamen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71560" y="2857680"/>
          <a:ext cx="5486400" cy="108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857680"/>
                    <a:ext cx="548640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04920" y="4495680"/>
            <a:ext cx="8305560" cy="167652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Times New Roman"/>
              </a:rPr>
              <a:t>III - FASE DA FISCALIZAÇÃO DA LAVR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( Códigos de Mineração e de Águas Minerais e Legis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rrelata no âmbito do MME e do 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1600200"/>
          <a:ext cx="8153640" cy="54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5364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685800"/>
            <a:ext cx="9144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oncessões de Lavr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Água Mineral e Água Potável de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brasil1" descr="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27120" y="3159360"/>
            <a:ext cx="79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90720" y="2517840"/>
          <a:ext cx="7010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7010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609480"/>
            <a:ext cx="914400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ffffff"/>
                </a:solidFill>
                <a:uFillTx/>
                <a:latin typeface="Times New Roman"/>
              </a:rPr>
              <a:t>Classificação Segundo o Código de Águas Minerai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m - potável de mesa; fl – fluoretada; rd – radioativa; tm – termal; Ab – alcalino-bicarbonatada; at – alcalino-terrosa; cg – carbogasosa; Gf – gasosa-ferruginosa-magnesiana-alcalina; sf – sulfurosa; Bs – bicarbonatada sullfurosa; lt – litinada; sft - sulfatad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brasil1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48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8120" y="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MINISTÉRIO DE MINAS E E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0"/>
          <a:ext cx="3124080" cy="55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31240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20:26:40Z</dcterms:created>
  <dc:creator>DNPM</dc:creator>
  <dc:description/>
  <dc:language>en-US</dc:language>
  <cp:lastModifiedBy>emanuel.queiroz</cp:lastModifiedBy>
  <cp:lastPrinted>2000-05-18T15:13:56Z</cp:lastPrinted>
  <dcterms:modified xsi:type="dcterms:W3CDTF">2005-10-24T10:39:48Z</dcterms:modified>
  <cp:revision>302</cp:revision>
  <dc:subject/>
  <dc:title>Normas Regulamentares de Mineração</dc:title>
</cp:coreProperties>
</file>